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47EF-905B-417D-A6A4-0419F9435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1548-C62A-4AC7-AA5F-3F524421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189E-27B8-4DBA-9785-B703B547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6716-89C8-410F-90A9-381ADCC39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F7D6-97C6-40F5-A6F5-D49C10037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4DDB-B43E-4E89-BA6B-91C00BF8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4C28-B456-461C-98F9-9391F7B6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CC99-77E5-4BD8-A8C0-BA7920B7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5E5D-DF24-49B3-83D7-52D69CC7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A264-C7AC-45CF-96AA-8A0C32E6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8B50-E0AC-449B-A1E8-1FE18BDF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4D69-6AB6-41FF-A8A6-BC793D32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F994-AEB1-4BF5-ADB7-A90BFDCE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0EA2-75B9-4EDB-A3D4-2B6B3F6C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E312-322C-4FD5-A9F3-289BB891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A90E-5037-4441-BE77-96D40961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57E8-DB86-4BD8-8713-3F63EE3B5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C125-D367-4B97-8F27-0B9A144E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8EFF-FE60-4F27-88BD-C12C7B50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2829-BF01-4BA3-85A9-68E7E43E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C14A-307D-4EC3-8E3B-C5F67B94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E7A6-190B-4D25-BF6C-63F37B4C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2525-9D69-4A76-B95B-0480D0D7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B702-499C-4431-AF89-3125BC0A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EF73-4C56-4411-813F-B88632C6FFE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996D-E47C-4A85-81AF-5C98A79B5F9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ОД И ПЛАНОВЫЙ ПЕРИОД 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-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14:14Z</dcterms:modified>
  <cp:revision>45</cp:revision>
  <dc:subject/>
  <dc:title>Структура собственных доходов на 2016 год бюджета Дальнереченского городского округа</dc:title>
</cp:coreProperties>
</file>